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73121-7E4A-4796-A2FA-6BF93841D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4E9AA-0108-4D54-997F-0C1D9D072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8C4BA-EAF6-41E4-ACA5-0288F9F42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8EFE9-D366-4C64-995A-E9ED4B4B6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36BE52-BB78-432C-A29D-F4E4164898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87ECF-3506-48E8-B568-5E5514AA1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89B09-8986-4D17-8E22-FD29D7B66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28E71-9A1A-4A34-9F3D-AC9863B05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C6608-46F9-49BC-AC4B-00015E13F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80C3A-0399-4B2E-A069-CBF4A5E65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8A9EF-CDA8-4A45-8E8D-6724A4E53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EA26E-22D8-46BF-8C0D-13443E08C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E09C5-7D54-4CD9-B442-C7E227C90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14F06-8B10-41AB-A8CA-27C898DEF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F10C8-A776-4A3D-97FB-34E1F7D93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C3D015-BF22-4E38-BB0E-68E86E5B26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F25214-0F16-4E61-9B52-76B4F7D48C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4AC2E-3D8E-4A62-BE7D-18ABBA349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39E1B-DE62-47C5-9250-9B8BC23BD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2444F-D425-46D6-A562-7F8349280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45DAC-39DE-47A7-9E5D-A3983433B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17D16-8505-4D9B-B32C-C666F6BDF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FF4C1-00B2-4A64-B80C-530DD46D7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930BF-3372-469B-823E-CC0975A8A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EAC40-6E1C-4D41-986C-5B7B02D9ADCD}"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83BF3-F629-48DC-B050-D8C65C8C4DBE}"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bigbrainz.com/index.php"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dhelper.com/runaway_math_puzzle.ht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mathlibs.org/"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80880"/>
            <a:ext cx="68580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th Games and Other Math Resources</a:t>
            </a:r>
            <a:endParaRPr b="0" lang="en-US" sz="4400" spc="-1" strike="noStrike">
              <a:solidFill>
                <a:srgbClr val="000000"/>
              </a:solidFill>
              <a:latin typeface="Comic Sans MS"/>
            </a:endParaRPr>
          </a:p>
        </p:txBody>
      </p:sp>
      <p:sp>
        <p:nvSpPr>
          <p:cNvPr id="152" name="PlaceHolder 2"/>
          <p:cNvSpPr>
            <a:spLocks noGrp="1"/>
          </p:cNvSpPr>
          <p:nvPr>
            <p:ph/>
          </p:nvPr>
        </p:nvSpPr>
        <p:spPr>
          <a:xfrm>
            <a:off x="380520" y="1828800"/>
            <a:ext cx="800100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y</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ry Milliea-Peters, Miranda Levi, Rosa Barlow, Robyn Barlow, </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mp; Tatum Sanipass</a:t>
            </a:r>
            <a:endParaRPr b="0" lang="en-US" sz="3200" spc="-1" strike="noStrike">
              <a:solidFill>
                <a:srgbClr val="000000"/>
              </a:solidFill>
              <a:latin typeface="Comic Sans MS"/>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bruary 27, 2007</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nadian Mathematics Outreach Activities</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676520"/>
            <a:ext cx="7848720" cy="39621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the Canadian Mathematical Society website you can find math based day camps, competitions and various math based activities in New Brunswick.  This site also allows you to search for activities in other provinces.</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ww.cms.math.ca/Education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dditional Resources</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website is for teachers to find resources to teach math at all levels.  There are resources ranging from primary right up to university level cours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mathforum.org/teache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lusion</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conclusion we hope that we’ve shown you some of the resources that are available online and that they may be of use to you in the futur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1510920"/>
            <a:ext cx="68580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Introduction/Thesis</a:t>
            </a:r>
            <a:endParaRPr b="0" lang="en-US" sz="4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nnon Math</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objective of this game is to teach basic addition/subtraction and also the use of force and angles.  We recommend grades 4-5.</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http://funschool.kaboose.com/formula-fusion/number-fun/games/game_cannon_math.html</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lash Cards</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website has a feature where you can create flashcards for kids focusing on addition, subtraction, multiplication and divis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u="sng">
                <a:solidFill>
                  <a:srgbClr val="00b200"/>
                </a:solidFill>
                <a:uFillTx/>
                <a:latin typeface="Comic Sans MS"/>
                <a:hlinkClick r:id="rId1" action="ppaction://hlinksldjump"/>
              </a:rPr>
              <a:t>http://www.aplusmath.co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imez Attack </a:t>
            </a: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objective of Timez attack is to help students practice their multiplication tables and to reinforce what they have learned to date.  You can download the free software at bigbrainz.com</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http://www.bigbrainz.com/index.php</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ttp://ezinearticles.com</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2057040"/>
            <a:ext cx="769608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is website you can find an interesting article by Pamela Stevens which outlines various math based careers for children who are math incline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th Bingo</a:t>
            </a:r>
            <a:endParaRPr b="0" lang="en-US" sz="4400" spc="-1" strike="noStrike">
              <a:solidFill>
                <a:srgbClr val="000000"/>
              </a:solidFill>
              <a:latin typeface="Comic Sans MS"/>
            </a:endParaRPr>
          </a:p>
        </p:txBody>
      </p:sp>
      <p:sp>
        <p:nvSpPr>
          <p:cNvPr id="163" name="PlaceHolder 2"/>
          <p:cNvSpPr>
            <a:spLocks noGrp="1"/>
          </p:cNvSpPr>
          <p:nvPr>
            <p:ph/>
          </p:nvPr>
        </p:nvSpPr>
        <p:spPr>
          <a:xfrm>
            <a:off x="685800" y="1599840"/>
            <a:ext cx="7696080" cy="38862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Math Bingo provides practice in algebra, arithmetic, or measurement for all students.  You can make it as easy or as difficult as you want.  Students can help in making the bingo cards.  Calling cards will be math equations.  When the student fills the whole card or makes a line, then he/she wins.   Fun for all ages.</a:t>
            </a:r>
            <a:endParaRPr b="0" lang="en-US" sz="2800" spc="-1" strike="noStrike">
              <a:solidFill>
                <a:srgbClr val="000000"/>
              </a:solidFill>
              <a:latin typeface="Comic Sans MS"/>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www.educationworld.com/a_lesson/02/1p268-04.shtml</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unaway Math</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Runaway math puzzles vary from grades 2  to 6. The following can be used, addition only, subtraction only, multiplication only, division only, addition and subtraction, multiplication and division, or all together.you can create your own at this web site: </a:t>
            </a:r>
            <a:r>
              <a:rPr b="0" lang="en-US" sz="2800" spc="-1" strike="noStrike" u="sng">
                <a:solidFill>
                  <a:srgbClr val="00b200"/>
                </a:solidFill>
                <a:uFillTx/>
                <a:latin typeface="Comic Sans MS"/>
                <a:ea typeface="Times New Roman"/>
                <a:hlinkClick r:id="rId1"/>
              </a:rPr>
              <a:t>www.edhelper.com/runaway_math_puzzle.htm</a:t>
            </a:r>
            <a:r>
              <a:rPr b="0" lang="en-US" sz="2800" spc="-1" strike="noStrike" u="sng">
                <a:solidFill>
                  <a:srgbClr val="000000"/>
                </a:solidFill>
                <a:uFillTx/>
                <a:latin typeface="Comic Sans MS"/>
                <a:ea typeface="Times New Roman"/>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th Libs</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ath libs is a fun way for students to practice math concepts such as multiplication, addition. The game requires you to enter a boys name, a girls name, funny animals etc. and they use the names to create funny word problems for students to answer. </a:t>
            </a:r>
            <a:r>
              <a:rPr b="0" lang="en-US" sz="3200" spc="-1" strike="noStrike" u="sng">
                <a:solidFill>
                  <a:srgbClr val="00b200"/>
                </a:solidFill>
                <a:uFillTx/>
                <a:latin typeface="Comic Sans MS"/>
                <a:hlinkClick r:id="rId1"/>
              </a:rPr>
              <a:t>http://mathlibs.org/</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05:42Z</dcterms:created>
  <dc:creator>John Garfield Barlow</dc:creator>
  <dc:description/>
  <dc:language>en-US</dc:language>
  <cp:lastModifiedBy>Tatum Sanipass</cp:lastModifiedBy>
  <dcterms:modified xsi:type="dcterms:W3CDTF">2007-02-27T19:28:17Z</dcterms:modified>
  <cp:revision>7</cp:revision>
  <dc:subject/>
  <dc:title>Introduction/Objectives</dc:title>
</cp:coreProperties>
</file>